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B9E-C1F0-4EA3-855C-72FD035B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592-0228-40CC-90D6-71992972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51F-CD7A-42F3-BD67-8528B27F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8F9-6856-4463-A910-3C92507B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C60B-48DA-4811-B51E-7E50CCAF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F363-670C-428F-91FA-711E9C53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3CCF-8AFA-4817-85FA-0F8EBE8C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FD1E-8A12-40F7-96FA-CD14D118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9C34-119B-4983-A23B-BDE2DB58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362A-2476-458A-BE6F-62ABFFE6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4BD9-6157-4C59-8534-1CAF0921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47DA-BAC5-43E3-9467-0E7D2062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3878-FC13-497F-A7D1-7A1F3A11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8A6B-DB3A-489F-88AD-F1416935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7C50-7746-485B-B6FF-58140474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B939-F080-4E36-9A08-5165F8B1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01AC-86DB-4044-AC16-428B9596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1CFE-DF55-4C1A-B357-D01E514E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FF0B7-833C-4E2B-A43A-F6C42557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5611F-6FF4-4975-92B4-235C576E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B9DB8-DCE3-4BA3-BA95-285F5712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B4034-48B5-473B-9E88-EDDFCC63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E82-C5FF-47CE-A6B4-62AAC358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A57D6-5E84-41E2-99FB-6391F2FC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F3FF-D7C6-407A-AFA6-F2484086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B2356-EBAE-4535-AC68-6FF55C9B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87167-0D1B-4297-B528-C3545096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92AA7-DEFD-4CF0-B542-F34961A5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6071C-C3D7-49E8-AD88-53A379CA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ABBAD-DB54-4999-B7C6-2329A12A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3C33C-DC05-4EA5-A6DF-59AFFD52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0523B-24B7-4BA6-9C3F-C6316D31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18138-6700-48EF-BBAA-550BF7B8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D2A-9907-4E1B-9CD2-9A748A10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0FE88-66CE-4BAD-8A47-61F62EA5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93E34-E951-4350-9404-9C595B74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3BB32-192E-4EED-9A08-EA4CAB6E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B4249-B69C-4428-AB8B-37CC825D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6606D-E898-4A1E-9784-4A4FBAA4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FF5D5-BEE9-4324-BF5B-B33B9989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AC3D1-CF6B-43C8-9EEF-D7BC5656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825A2-73BA-4262-A72E-4E583F12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42630-4CE4-49C1-9320-9AD06BBC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B23A1-C36D-4CA8-9E79-D586B8C3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AA9-7FF2-41B3-B584-2E47B970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AD310-2BB5-4496-940C-EAF77D17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20624-9D37-49AA-BB90-F0D7582A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CB942-B9E5-42B4-A3B7-93638C12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70EEE-BAF6-4D63-AB13-E3B8CBBB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0EA0F-7C59-4B21-8D9F-F0805698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5000A-3B76-442A-B613-BBFA4FC7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C3870-4BCB-4842-A872-678644BB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BF23C-931F-47BE-A042-A42E51EE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A5E78-5B75-4ABF-AD24-89B3FD8A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BD6BE-8077-4A18-899C-5942A5FA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E23-A0FD-4102-B2D0-F9FD74D3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7CFCA-D208-4860-A746-7D7BF30B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51EAB-55A1-4337-9614-EEFEF104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8558D-D15C-496C-8630-6305585B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4DE59-399D-4CD9-8E7A-87DBC6C5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679C6-E1BA-4870-8618-D894DA0E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52F8F-18C2-4E70-9855-ABE1A537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1A277-5250-4373-B839-66925304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BBB3F-0704-472B-ADF8-E734118F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F8682-CF10-4218-8464-F3A652DB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67418-DCDB-4463-A5DB-DC489966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559-496D-4982-ABAF-DEA2C6E8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955FC-F1CA-45B8-B1AA-9FFDAC0C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B8729-D029-4425-8D45-191889F8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B7AEE-74ED-4085-94FB-813136E2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13290-C729-4395-AA3F-25CFE1B1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1DF15-C9AF-43EE-8F74-562473D3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74594-9A7C-4A3C-A500-2B8D15E8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33313-C839-414B-A3F0-8D02AEF0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EF00B-A546-445A-89F0-AEC80D47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50F21-03F9-4D52-86B5-D6B29BB1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ECC92-3AD6-4262-B3D3-B5CC2C36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B8C-590C-4F66-BFD8-4637F8DD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3C757-89D3-4FA1-9D47-09D5B42C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62831-B65E-489F-B5EE-1E3A0837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C1413-E7C9-438D-9678-0FCA96D9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E81FE-C5AE-4179-AE03-2E2A83A7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8DB56-4F32-4C9E-B949-3107139F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65A4E-8147-4F19-8469-214CB9A9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7C845-CD0E-4FC9-8C57-13B2F389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D3CB8-A264-4A71-87D6-8198B876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67196-5C46-4DED-9646-244679E5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1305E-F68F-47C6-87F2-43531A90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FC9-12FB-4841-86EC-7540D642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FE412-F158-4E17-B53E-99B16375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5A0ED-A2A4-4CB9-A204-2B847ACA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9424F-2DF4-4426-92B3-BE096066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FAC93-BA29-4BD2-84EA-76C7B2C1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EA8F5-04CC-493C-ABE8-FA1BA44B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D4AB3-8AA3-4B46-A0DB-F62F8A58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B22A6-C0FA-49DC-A32C-1C59287E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611F-D5DD-464D-8B8D-7795549BB9A0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53B6-6B60-4260-8739-90472E40F932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A50A-70D1-4670-B6D5-7066AE6E5E15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0B1C-BF63-4B64-B26D-96EC98A76E8F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774B-E039-4205-A015-F97751416742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C634-3469-44F1-A3F5-A983A2C022CE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1AE1-D480-456F-A73C-A37E2F0365C0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8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804A-2BC1-4F3B-A613-83E6541C6F12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visu.com/blog/wp-content/uploads/2007/09/daruma.jpg&amp;imgrefurl=http://www.evisu.com/blog/tag/jeans/&amp;h=800&amp;w=800&amp;sz=84&amp;hl=en&amp;start=1&amp;sig2=9UphbXiX5FwFngpmIJLyVA&amp;um=1&amp;usg=__aBTQot5B1bP-Rc2ZDuKU9anQndI=&amp;tbnid=tRkG5dQXA7VlXM:&amp;tbnh=143&amp;tbnw=143&amp;ei=OO-zSPidNYrQetSZ_JUI&amp;prev=/images?q=daruma+doll&amp;um=1&amp;hl=en&amp;rlz=1T4ADBF_enUS221US222&amp;sa=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logadilla.com/wp-content/uploads/2007/05/daruma.jpg&amp;imgrefurl=http://www.blogadilla.com/tag/what-is-it/&amp;h=880&amp;w=732&amp;sz=89&amp;hl=en&amp;start=2&amp;sig2=9tUCMlYix1qR-ePmtmuLIA&amp;um=1&amp;usg=__aDwN9HB-a5dD-80LoL7UyAGDqF8=&amp;tbnid=YfXzhIX-4Y_3AM:&amp;tbnh=146&amp;tbnw=121&amp;ei=OO-zSPidNYrQetSZ_JUI&amp;prev=/images?q=daruma+doll&amp;um=1&amp;hl=en&amp;rlz=1T4ADBF_enUS221US222&amp;sa=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11.ocn.ne.jp/~popyah/yamanashi/oyako.jpg&amp;imgrefurl=http://darumadollmuseum.blogspot.com/2004_12_01_archive.html&amp;h=375&amp;w=500&amp;sz=26&amp;hl=en&amp;start=33&amp;sig2=lNzSjYhJ8olXekqqGsv_bw&amp;um=1&amp;usg=__5z9Y_JB6QZcPFGuuMu_SMre1x7c=&amp;tbnid=pcxJ2y-8ebq7EM:&amp;tbnh=98&amp;tbnw=130&amp;ei=6O-zSIbkHaioecmKrY4I&amp;prev=/images?q=daruma+doll&amp;start=20&amp;ndsp=20&amp;um=1&amp;hl=en&amp;rlz=1T4ADBF_enUS221US222&amp;sa=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ighlightskids.com/Stories/NonFiction/images/NF0100_darumaSan.jpg&amp;imgrefurl=http://www.highlightskids.com/Stories/NonFiction/NF0100_darumaSan.asp&amp;h=359&amp;w=300&amp;sz=26&amp;hl=en&amp;start=34&amp;sig2=61fsZ85LqeJ--HJWd7bGsQ&amp;um=1&amp;usg=__RB4VR5dEMMcTSYjQbqlRlwDTiLM=&amp;tbnid=f7tT3M3FwJogOM:&amp;tbnh=121&amp;tbnw=101&amp;ei=6O-zSIbkHaioecmKrY4I&amp;prev=/images?q=daruma+doll&amp;start=20&amp;ndsp=20&amp;um=1&amp;hl=en&amp;rlz=1T4ADBF_enUS221US222&amp;sa=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osare.com/kokeshi/abom-ph/abom-p02-02.jpg&amp;imgrefurl=http://darumadollmuseum.blogspot.com/2005/03/kokeshi-2.html&amp;h=390&amp;w=520&amp;sz=31&amp;hl=en&amp;start=38&amp;sig2=FLDQ6ehYovcjxveH7skg1w&amp;um=1&amp;usg=__-7XF_epgLAX9OHCAbRjkliU-Goo=&amp;tbnid=Jqvx4UryG7GHCM:&amp;tbnh=98&amp;tbnw=131&amp;ei=6O-zSIbkHaioecmKrY4I&amp;prev=/images?q=daruma+doll&amp;start=20&amp;ndsp=20&amp;um=1&amp;hl=en&amp;rlz=1T4ADBF_enUS221US222&amp;sa=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ARUMA DOLL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-1973880"/>
            <a:ext cx="640080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595959"/>
              </a:solidFill>
              <a:latin typeface="Garamond"/>
            </a:endParaRPr>
          </a:p>
        </p:txBody>
      </p:sp>
      <p:pic>
        <p:nvPicPr>
          <p:cNvPr id="346" name="Picture 2" descr="http://tbn0.google.com/images?q=tbn:tRkG5dQXA7VlXM:http://www.evisu.com/blog/wp-content/uploads/2007/09/darum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35440" y="2438280"/>
            <a:ext cx="327312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HAT ARE THEY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14040" y="1981080"/>
            <a:ext cx="79246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6848496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A Japanese good luck symbol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6848496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It stands for the spirit of courage and determination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6848496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Constructed as a folk art doll so that no matter how it is tipped, it reverts </a:t>
            </a: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to </a:t>
            </a: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the upright position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6848496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Often given when an individual starts something new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6848496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Invites personal goal setting; paint one eye when a goal is set and the 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other when it has been met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6848496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What is your goal for this course?  Think, decide, and record it on the back </a:t>
            </a: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of your “doll”.  Color in one eye.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68484960">
              <a:lnSpc>
                <a:spcPct val="13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http://tbn0.google.com/images?q=tbn:YfXzhIX-4Y_3AM:http://www.blogadilla.com/wp-content/uploads/2007/05/darum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333440"/>
            <a:ext cx="33577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http://tbn0.google.com/images?q=tbn:pcxJ2y-8ebq7EM:http://www11.ocn.ne.jp/~popyah/yamanashi/oyak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6840" y="1819440"/>
            <a:ext cx="427032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://tbn0.google.com/images?q=tbn:f7tT3M3FwJogOM:http://www.highlightskids.com/Stories/NonFiction/images/NF0100_darumaS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447920"/>
            <a:ext cx="25905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tbn0.google.com/images?q=tbn:Jqvx4UryG7GHCM:http://www.yosare.com/kokeshi/abom-ph/abom-p02-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3280" y="1600200"/>
            <a:ext cx="39974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http://tbn0.google.com/images?q=tbn:eyaYhWZZN2mzkM:http://www.asahi-net.or.jp/~um8d-tmzk/matukawa1.jpg"/>
          <p:cNvPicPr/>
          <p:nvPr/>
        </p:nvPicPr>
        <p:blipFill>
          <a:blip r:embed="rId1"/>
          <a:stretch/>
        </p:blipFill>
        <p:spPr>
          <a:xfrm>
            <a:off x="2666880" y="990720"/>
            <a:ext cx="38102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Daruma doll"/>
          <p:cNvPicPr/>
          <p:nvPr/>
        </p:nvPicPr>
        <p:blipFill>
          <a:blip r:embed="rId1"/>
          <a:stretch/>
        </p:blipFill>
        <p:spPr>
          <a:xfrm>
            <a:off x="2495520" y="1217520"/>
            <a:ext cx="415296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1800" y="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1523880" y="1295280"/>
            <a:ext cx="594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i ni! fu n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undan Daruma 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kai zukin kaburi sunmait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 times you may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ight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 rise up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1:54:58Z</dcterms:created>
  <dc:creator>HP Authorized Customer</dc:creator>
  <dc:description/>
  <dc:language>en-US</dc:language>
  <cp:lastModifiedBy>spalding</cp:lastModifiedBy>
  <dcterms:modified xsi:type="dcterms:W3CDTF">2011-08-23T13:36:48Z</dcterms:modified>
  <cp:revision>4</cp:revision>
  <dc:subject/>
  <dc:title>Daruma Dolls</dc:title>
</cp:coreProperties>
</file>